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22C-CDFC-49EC-933D-EA87B653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9173-488F-40DC-864A-A926214D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3AB6-8EB3-4271-9D93-AF6FEAB5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175-BEF0-4CC9-A39B-6A5A4A87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A787-5D00-4D1B-9EBC-A2CB33EC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360-0B30-4B70-A360-44447136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F85-57B6-411E-8C34-C42EA985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F40-C5DA-4A6B-BCF9-D2C9DE15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BE3-E511-42F5-A2ED-B7A0DF83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219-A663-4116-9714-8E427A4E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D34-1A0E-491B-B8A9-2DB2D547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8EB2-B933-41A3-884C-AC3027BB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BAD3-097B-4B3F-A5DF-9761984CF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hyperlink" Target="http://crimeshots.com/CrimeScene1.html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Edwardian Script ITC"/>
              </a:rPr>
              <a:t>Jonbenet Ramsey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"It was very unusual for a kidnap victim's body to be found at home — it's not adding up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-360" y="0"/>
            <a:ext cx="3352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Jonbenet was just 6 years old when her life was taken from her in her own ho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he lived in Boulder Color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er parents found a note the day after Christmas saying that Jonbenet was kidnapped  by a “small foreign faction” and was being held for $118,000 exchange due the next 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71840" y="0"/>
            <a:ext cx="2971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She was found by her father in the basement of her home, the same day the note was fou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Her parents, John and Patsy Ramsey were prime susp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Later on John Andrew, and Melinda ( John Ramsey’s children) were also suspe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John Mark Kar was another prime susp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4648320" y="1600200"/>
            <a:ext cx="37335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ck of Footprints in the sn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 forced en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ir analy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ood D.N.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ot pri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ndwriting samp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known male substance in her underpa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ks of a possible stun gu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Rectangle 5" descr=""/>
          <p:cNvPicPr/>
          <p:nvPr/>
        </p:nvPicPr>
        <p:blipFill>
          <a:blip r:embed="rId10"/>
          <a:stretch/>
        </p:blipFill>
        <p:spPr>
          <a:xfrm>
            <a:off x="-646200" y="-378000"/>
            <a:ext cx="7523280" cy="1835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4820760" y="563868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crimeshots.com/CrimeScene1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0880" y="190512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now did not lead to all the do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onbenet’s room was below her parents with a 55 foot walkway, and thick carpet, relatively sound proo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ment window was op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or in the bas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552720" y="2590920"/>
            <a:ext cx="25909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foot prints in the sn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forced e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 wind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ather found the body in the first room he looked 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tangle 8" descr=""/>
          <p:cNvPicPr/>
          <p:nvPr/>
        </p:nvPicPr>
        <p:blipFill>
          <a:blip r:embed="rId2"/>
          <a:stretch/>
        </p:blipFill>
        <p:spPr>
          <a:xfrm>
            <a:off x="2090880" y="66600"/>
            <a:ext cx="48765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362320" y="129528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6d9f1"/>
                </a:solidFill>
                <a:latin typeface="Calibri"/>
              </a:rPr>
              <a:t>A proper search of the house was not conduct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6d9f1"/>
                </a:solidFill>
                <a:latin typeface="Calibri"/>
              </a:rPr>
              <a:t>The property of the house was not sealed of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6d9f1"/>
                </a:solidFill>
                <a:latin typeface="Calibri"/>
              </a:rPr>
              <a:t>Friends, and family could walk in and out as they ple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6d9f1"/>
                </a:solidFill>
                <a:latin typeface="Calibri"/>
              </a:rPr>
              <a:t>Detective asked a friend (not a detective) to look for “anything suspicious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Rectangle 6" descr=""/>
          <p:cNvPicPr/>
          <p:nvPr/>
        </p:nvPicPr>
        <p:blipFill>
          <a:blip r:embed="rId2"/>
          <a:stretch/>
        </p:blipFill>
        <p:spPr>
          <a:xfrm>
            <a:off x="1066680" y="-291960"/>
            <a:ext cx="70837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599840" y="198108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ember 2003 D.N.A was still being analyz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ll unsolved of who did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February 2009, the Boulder Police Department took the case back from the district attorney and re-opened the investig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Rectangle 4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6181560" cy="3017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jonbenet230806_228x471.jpg"/>
          <p:cNvPicPr/>
          <p:nvPr/>
        </p:nvPicPr>
        <p:blipFill>
          <a:blip r:embed="rId2"/>
          <a:stretch/>
        </p:blipFill>
        <p:spPr>
          <a:xfrm>
            <a:off x="6324480" y="488880"/>
            <a:ext cx="281952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JonBenet-Ramsey-582x768-91kb-media-888-media-79964-1034115209.jpg"/>
          <p:cNvPicPr/>
          <p:nvPr/>
        </p:nvPicPr>
        <p:blipFill>
          <a:blip r:embed="rId2"/>
          <a:stretch/>
        </p:blipFill>
        <p:spPr>
          <a:xfrm>
            <a:off x="2895480" y="0"/>
            <a:ext cx="3638520" cy="4800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jonbenet.jpg"/>
          <p:cNvPicPr/>
          <p:nvPr/>
        </p:nvPicPr>
        <p:blipFill>
          <a:blip r:embed="rId3"/>
          <a:stretch/>
        </p:blipFill>
        <p:spPr>
          <a:xfrm>
            <a:off x="0" y="3584520"/>
            <a:ext cx="2633760" cy="3273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images (1).jpg"/>
          <p:cNvPicPr/>
          <p:nvPr/>
        </p:nvPicPr>
        <p:blipFill>
          <a:blip r:embed="rId4"/>
          <a:stretch/>
        </p:blipFill>
        <p:spPr>
          <a:xfrm>
            <a:off x="6858000" y="1219320"/>
            <a:ext cx="1943280" cy="2352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jonbenet_ramsey.jpg"/>
          <p:cNvPicPr/>
          <p:nvPr/>
        </p:nvPicPr>
        <p:blipFill>
          <a:blip r:embed="rId5"/>
          <a:stretch/>
        </p:blipFill>
        <p:spPr>
          <a:xfrm>
            <a:off x="228600" y="228600"/>
            <a:ext cx="2149560" cy="289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JonbenetRamsey.jpg"/>
          <p:cNvPicPr/>
          <p:nvPr/>
        </p:nvPicPr>
        <p:blipFill>
          <a:blip r:embed="rId6"/>
          <a:stretch/>
        </p:blipFill>
        <p:spPr>
          <a:xfrm>
            <a:off x="6934320" y="4267080"/>
            <a:ext cx="188568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7" descr="road (1).jpg"/>
          <p:cNvPicPr/>
          <p:nvPr/>
        </p:nvPicPr>
        <p:blipFill>
          <a:blip r:embed="rId1"/>
          <a:stretch/>
        </p:blipFill>
        <p:spPr>
          <a:xfrm>
            <a:off x="0" y="3987720"/>
            <a:ext cx="9191520" cy="2870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20080709__JONBENET-RAMSEYA~p1.jpg"/>
          <p:cNvPicPr/>
          <p:nvPr/>
        </p:nvPicPr>
        <p:blipFill>
          <a:blip r:embed="rId2"/>
          <a:stretch/>
        </p:blipFill>
        <p:spPr>
          <a:xfrm>
            <a:off x="2819520" y="0"/>
            <a:ext cx="3589200" cy="457200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6" descr="20080709__JONBENET-RAMSEYB~p1.jpg"/>
          <p:cNvPicPr/>
          <p:nvPr/>
        </p:nvPicPr>
        <p:blipFill>
          <a:blip r:embed="rId3"/>
          <a:stretch/>
        </p:blipFill>
        <p:spPr>
          <a:xfrm>
            <a:off x="6324480" y="0"/>
            <a:ext cx="2819520" cy="45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20080709__JONBENET-RAMSEY~p1.jpg"/>
          <p:cNvPicPr/>
          <p:nvPr/>
        </p:nvPicPr>
        <p:blipFill>
          <a:blip r:embed="rId4"/>
          <a:stretch/>
        </p:blipFill>
        <p:spPr>
          <a:xfrm>
            <a:off x="0" y="0"/>
            <a:ext cx="3200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8:34:47Z</dcterms:created>
  <dc:creator>HP Authorized Customer</dc:creator>
  <dc:description/>
  <dc:language>en-US</dc:language>
  <cp:lastModifiedBy>Jackie Carl</cp:lastModifiedBy>
  <dcterms:modified xsi:type="dcterms:W3CDTF">2010-09-08T19:52:33Z</dcterms:modified>
  <cp:revision>15</cp:revision>
  <dc:subject/>
  <dc:title>Slide 1</dc:title>
</cp:coreProperties>
</file>